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gif" ContentType="image/gif"/>
  <Override PartName="/ppt/media/image8.gif" ContentType="image/gif"/>
  <Override PartName="/ppt/media/image16.gif" ContentType="image/gif"/>
  <Override PartName="/ppt/media/image17.png" ContentType="image/png"/>
  <Override PartName="/ppt/media/image14.gif" ContentType="image/gif"/>
  <Override PartName="/ppt/media/image1.png" ContentType="image/png"/>
  <Override PartName="/ppt/media/image11.png" ContentType="image/png"/>
  <Override PartName="/ppt/media/image3.gif" ContentType="image/gif"/>
  <Override PartName="/ppt/media/image4.png" ContentType="image/png"/>
  <Override PartName="/ppt/media/image2.gif" ContentType="image/gif"/>
  <Override PartName="/ppt/media/image5.png" ContentType="image/png"/>
  <Override PartName="/ppt/media/image10.png" ContentType="image/png"/>
  <Override PartName="/ppt/media/image6.gif" ContentType="image/gif"/>
  <Override PartName="/ppt/media/image12.gif" ContentType="image/gif"/>
  <Override PartName="/ppt/media/image15.png" ContentType="image/pn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F47C-DC2F-449D-9D89-FE1A52BB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3B70-AEC1-4F5E-B007-D08D570F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1CF3-3000-45DB-938E-F83918177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5095-DD87-43A3-897C-E23D89DB1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BEB1-EA6B-4FF1-85F2-CB472BBB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ECFA-FC8D-43E4-A00F-B61BCA0E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44C0-B9BE-456F-BBEC-B23D0766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604C-6035-453F-8906-5CF5A3C5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2586-3670-4DB0-ACBA-9A8B9827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4AD3-3770-439B-9B32-872DC976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9C23-DB0C-4BF2-8BE3-E70614CA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D709-D22B-4B7D-B7E4-FBF71394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3B59-8C5F-415E-93E2-99D2A700A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gif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2120" y="243828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9600" spc="-1" strike="noStrike">
                <a:solidFill>
                  <a:srgbClr val="ffffff"/>
                </a:solidFill>
                <a:latin typeface="Palace Script MT"/>
              </a:rPr>
              <a:t>Adjectivu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flipH="1">
            <a:off x="5638320" y="3733920"/>
            <a:ext cx="1381320" cy="2228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 flipH="1">
            <a:off x="3124080" y="4038480"/>
            <a:ext cx="1270080" cy="1524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62520" y="2895480"/>
            <a:ext cx="1904760" cy="1524240"/>
          </a:xfrm>
          <a:prstGeom prst="wedgeEllipseCallout">
            <a:avLst>
              <a:gd name="adj1" fmla="val -44250"/>
              <a:gd name="adj2" fmla="val 70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3300"/>
                </a:solidFill>
                <a:latin typeface="Tahoma"/>
              </a:rPr>
              <a:t>- Îmi place mica ta pisică cu blana moale şi portocalie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2743200"/>
            <a:ext cx="1981080" cy="1143000"/>
          </a:xfrm>
          <a:prstGeom prst="wedgeEllipseCallout">
            <a:avLst>
              <a:gd name="adj1" fmla="val -39421"/>
              <a:gd name="adj2" fmla="val 70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3300"/>
                </a:solidFill>
                <a:latin typeface="Tahoma"/>
              </a:rPr>
              <a:t>- Ce căţel mic şi drăgălaş ai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3808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 u="sng">
                <a:solidFill>
                  <a:srgbClr val="ffffff"/>
                </a:solidFill>
                <a:uFillTx/>
                <a:latin typeface="Tahoma"/>
              </a:rPr>
              <a:t>DESCOPER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8229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cc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cffcc"/>
                </a:solidFill>
                <a:latin typeface="Tahoma"/>
              </a:rPr>
              <a:t> </a:t>
            </a:r>
            <a:r>
              <a:rPr b="1" lang="ro-RO" sz="1800" spc="-1" strike="noStrike">
                <a:solidFill>
                  <a:srgbClr val="ccffcc"/>
                </a:solidFill>
                <a:latin typeface="Tahoma"/>
              </a:rPr>
              <a:t>Care sunt substantivele din enunţurile rostite de fetiţ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cc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cffcc"/>
                </a:solidFill>
                <a:latin typeface="Tahoma"/>
              </a:rPr>
              <a:t> </a:t>
            </a:r>
            <a:r>
              <a:rPr b="1" lang="ro-RO" sz="1800" spc="-1" strike="noStrike">
                <a:solidFill>
                  <a:srgbClr val="ccffcc"/>
                </a:solidFill>
                <a:latin typeface="Tahoma"/>
              </a:rPr>
              <a:t>Identifică acele cuvinte care exprimă însuşiri ale pisicii, ale blăniţei, ale căţelulu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2209680"/>
            <a:ext cx="3048120" cy="3962520"/>
          </a:xfrm>
          <a:prstGeom prst="verticalScrol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22096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Tahoma"/>
              </a:rPr>
              <a:t>REŢIN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2819520"/>
            <a:ext cx="198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Tahoma"/>
              </a:rPr>
              <a:t>Partea de vorbire care exprimă însuşiri ale fiinţelor, lucrurilor, fenomenelor naturii se numeşte adjecti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3520" y="6094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Adjectivul poate expri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447920"/>
            <a:ext cx="861084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2000" spc="-1" strike="noStrike">
                <a:solidFill>
                  <a:srgbClr val="ffcc00"/>
                </a:solidFill>
                <a:latin typeface="Tahoma"/>
              </a:rPr>
              <a:t>însuşirea unei fiinţe sau a unui obiect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 – frumos, bun, inteligent, greu, drag, tânăr, harnic, silitor, cuminte, sincer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2000" spc="-1" strike="noStrike">
                <a:solidFill>
                  <a:srgbClr val="ffcc00"/>
                </a:solidFill>
                <a:latin typeface="Tahoma"/>
              </a:rPr>
              <a:t>forma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 – rotund, pătrat, oval, dreptunghiular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2000" spc="-1" strike="noStrike">
                <a:solidFill>
                  <a:srgbClr val="ffcc00"/>
                </a:solidFill>
                <a:latin typeface="Tahoma"/>
              </a:rPr>
              <a:t>mărimea 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– mare, mic, uriaş, minuscul, înalt, scund, lung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2000" spc="-1" strike="noStrike">
                <a:solidFill>
                  <a:srgbClr val="ffcc00"/>
                </a:solidFill>
                <a:latin typeface="Tahoma"/>
              </a:rPr>
              <a:t>culoarea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 – alb, roşu, verde, galbe, gri, vernil vişiniu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2000" spc="-1" strike="noStrike">
                <a:solidFill>
                  <a:srgbClr val="ffcc00"/>
                </a:solidFill>
                <a:latin typeface="Tahoma"/>
              </a:rPr>
              <a:t>materia din care este alcătuit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 – osos, lemnos, metalic, fibros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2000" spc="-1" strike="noStrike">
                <a:solidFill>
                  <a:srgbClr val="ffcc00"/>
                </a:solidFill>
                <a:latin typeface="Tahoma"/>
              </a:rPr>
              <a:t>originea 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– românesc, franţuzesc, american, vienez, studenţesc, ţărănesc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2000" spc="-1" strike="noStrike">
                <a:solidFill>
                  <a:srgbClr val="ffcc00"/>
                </a:solidFill>
                <a:latin typeface="Tahoma"/>
              </a:rPr>
              <a:t>gustul 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– dulce, acru, amar, sărat, piperat, condimentat, rânced, amărui, acrişor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7200" y="228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Exerciţ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761760" cy="1066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905120" y="4114800"/>
            <a:ext cx="914400" cy="1028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3657600" y="2286000"/>
            <a:ext cx="1523880" cy="708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4952880" y="4267080"/>
            <a:ext cx="914400" cy="952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380880" y="4038480"/>
            <a:ext cx="1143000" cy="1086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2209680" y="1752480"/>
            <a:ext cx="838440" cy="1257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 rot="7685400">
            <a:off x="2985840" y="4194000"/>
            <a:ext cx="2286000" cy="650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04920" y="5335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Selectează adjective potrivite pentru substantivele date. (click pe adjecti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2860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ffffff"/>
                </a:solidFill>
                <a:latin typeface="Tahoma"/>
              </a:rPr>
              <a:t>căpşun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14800" y="24382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ffffff"/>
                </a:solidFill>
                <a:latin typeface="Tahoma"/>
              </a:rPr>
              <a:t>pălăr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243828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66"/>
                </a:solidFill>
                <a:latin typeface="Tahoma"/>
              </a:rPr>
              <a:t>fat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480060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ffffff"/>
                </a:solidFill>
                <a:latin typeface="Tahoma"/>
              </a:rPr>
              <a:t>vul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45720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00"/>
                </a:solidFill>
                <a:latin typeface="Tahoma"/>
              </a:rPr>
              <a:t>pu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05520" y="48006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ffffff"/>
                </a:solidFill>
                <a:latin typeface="Tahoma"/>
              </a:rPr>
              <a:t>veveriţ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9102200">
            <a:off x="3353040" y="472356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00"/>
                </a:solidFill>
                <a:latin typeface="Tahoma"/>
              </a:rPr>
              <a:t>morco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380880"/>
            <a:ext cx="762120" cy="38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3300"/>
                </a:solidFill>
                <a:latin typeface="Tahoma"/>
              </a:rPr>
              <a:t>roş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380880"/>
            <a:ext cx="838080" cy="38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3300"/>
                </a:solidFill>
                <a:latin typeface="Tahoma"/>
              </a:rPr>
              <a:t>galb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24680" y="380880"/>
            <a:ext cx="914400" cy="38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3300"/>
                </a:solidFill>
                <a:latin typeface="Tahoma"/>
              </a:rPr>
              <a:t>ver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867280" y="990720"/>
            <a:ext cx="838440" cy="380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3300"/>
                </a:solidFill>
                <a:latin typeface="Tahoma"/>
              </a:rPr>
              <a:t>roşcat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0" y="990720"/>
            <a:ext cx="1143000" cy="380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3300"/>
                </a:solidFill>
                <a:latin typeface="Tahoma"/>
              </a:rPr>
              <a:t>portocal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29600" y="990720"/>
            <a:ext cx="685800" cy="380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v</a:t>
            </a:r>
            <a:r>
              <a:rPr b="1" lang="ro-RO" sz="1400" spc="-1" strike="noStrike">
                <a:solidFill>
                  <a:srgbClr val="003300"/>
                </a:solidFill>
                <a:latin typeface="Tahoma"/>
              </a:rPr>
              <a:t>e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1600200"/>
            <a:ext cx="1067040" cy="380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3300"/>
                </a:solidFill>
                <a:latin typeface="Tahoma"/>
              </a:rPr>
              <a:t>frumoas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0" y="1600200"/>
            <a:ext cx="685800" cy="380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3300"/>
                </a:solidFill>
                <a:latin typeface="Tahoma"/>
              </a:rPr>
              <a:t>nou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96080" y="1600200"/>
            <a:ext cx="990720" cy="380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3300"/>
                </a:solidFill>
                <a:latin typeface="Tahoma"/>
              </a:rPr>
              <a:t>sprinten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20120" y="2209680"/>
            <a:ext cx="914400" cy="38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3300"/>
                </a:solidFill>
                <a:latin typeface="Tahoma"/>
              </a:rPr>
              <a:t>blond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00800" y="2209680"/>
            <a:ext cx="914400" cy="38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3300"/>
                </a:solidFill>
                <a:latin typeface="Tahoma"/>
              </a:rPr>
              <a:t>şireat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2971800"/>
            <a:ext cx="83808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3300"/>
                </a:solidFill>
                <a:latin typeface="Tahoma"/>
              </a:rPr>
              <a:t>mic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67480" y="2971800"/>
            <a:ext cx="121932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3300"/>
                </a:solidFill>
                <a:latin typeface="Tahoma"/>
              </a:rPr>
              <a:t>delicioas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553080" y="3733920"/>
            <a:ext cx="990720" cy="380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dul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9"/>
          <a:stretch/>
        </p:blipFill>
        <p:spPr>
          <a:xfrm>
            <a:off x="6934320" y="4419720"/>
            <a:ext cx="1143000" cy="2057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73 0.06104 C -0.10729 0.07214 -0.15868 0.08347 -0.18732 0.09503 C -0.21632 0.10659 -0.21423 0.12393 -0.22882 0.13086 C -0.24323 0.1378 -0.25347 0.13873 -0.27465 0.13734 C -0.29583 0.13595 -0.3276 0.12578 -0.35573 0.12254 C -0.38368 0.1193 -0.41961 0.11792 -0.44288 0.11815 C -0.46614 0.11838 -0.46909 0.11653 -0.49531 0.12462 C -0.52152 0.13271 -0.58264 0.16 -0.6 0.16693 E">
                                      <p:cBhvr>
                                        <p:cTn id="34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8 0.04508 C -0.09584 0.04 -0.1257 0.03491 -0.15157 0.04508 C -0.17743 0.05526 -0.1941 0.07838 -0.22136 0.10658 C -0.24861 0.13479 -0.28889 0.19606 -0.31511 0.21433 C -0.34132 0.2326 -0.36198 0.21849 -0.37865 0.21641 C -0.39532 0.21433 -0.40903 0.20416 -0.41511 0.20161 E">
                                      <p:cBhvr>
                                        <p:cTn id="39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92 0.05156 C -0.02726 0.09872 -0.03559 0.14612 -0.04427 0.18057 C -0.05295 0.21502 -0.06215 0.21109 -0.07118 0.25872 C -0.08021 0.30635 -0.09531 0.40878 -0.09826 0.46589 C -0.10122 0.523 -0.08785 0.56277 -0.08872 0.60115 C -0.08958 0.63953 -0.04931 0.66982 -0.10295 0.69618 C -0.1566 0.72231 -0.33767 0.75075 -0.41094 0.75745 C -0.4842 0.76462 -0.51788 0.74982 -0.54271 0.73826 C -0.56753 0.72716 -0.55712 0.69803 -0.56007 0.68994 E">
                                      <p:cBhvr>
                                        <p:cTn id="44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26 0.02451 C -0.08333 0.02451 -0.11441 0.02474 -0.16007 0.0437 C -0.20573 0.06266 -0.29253 0.09711 -0.32674 0.13873 C -0.36094 0.18035 -0.34375 0.25734 -0.36493 0.29295 C -0.38611 0.32856 -0.42847 0.34151 -0.45382 0.35214 C -0.47917 0.36278 -0.50365 0.3133 -0.51719 0.35653 C -0.53073 0.39977 -0.5217 0.56463 -0.53472 0.61226 C -0.54774 0.65989 -0.58247 0.6444 -0.59497 0.64185 C -0.60747 0.63931 -0.60625 0.60532 -0.60937 0.59746 E">
                                      <p:cBhvr>
                                        <p:cTn id="49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49 0.04995 C -0.22084 0.17341 -0.37101 0.29711 -0.44028 0.39653 C -0.50955 0.49596 -0.48837 0.60648 -0.48629 0.64601 C -0.4842 0.68555 -0.43733 0.63584 -0.42761 0.6333 E">
                                      <p:cBhvr>
                                        <p:cTn id="54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07 0.01665 C -0.0066 0.22266 -0.00294999999999999 0.4289 -0.0974 0.54729 C -0.19184 0.66521 -0.47708 0.70497 -0.57674 0.72671 C -0.67639 0.74821 -0.67656 0.68717 -0.69583 0.67815 E">
                                      <p:cBhvr>
                                        <p:cTn id="59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55 -0.01295 C -0.15694 -0.03145 -0.25434 -0.04994 -0.29288 -0.01503 C -0.33142 0.01988 -0.27604 0.15607 -0.29115 0.1963 C -0.30625 0.23653 -0.36806 0.22104 -0.38333 0.2259 E">
                                      <p:cBhvr>
                                        <p:cTn id="64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06 0.04 C -0.07292 0.10497 -0.10278 0.17017 -0.14774 0.19838 C -0.19271 0.22659 -0.28542 0.20717 -0.31285 0.20902 E">
                                      <p:cBhvr>
                                        <p:cTn id="69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31 0.06104 C -0.05659 0.06775 -0.06788 0.07445 -0.07395 0.10543 C -0.08003 0.13642 -0.0802 0.1963 -0.08177 0.24694 C -0.08333 0.29757 -0.07812 0.36601 -0.08333 0.40971 C -0.08854 0.45341 -0.08055 0.47468 -0.11354 0.50913 C -0.14652 0.54358 -0.25104 0.60532 -0.28177 0.61688 C -0.3125 0.62844 -0.29409 0.58844 -0.29774 0.57896 C -0.30139 0.56948 -0.30295 0.5637 -0.30399 0.55977 E">
                                      <p:cBhvr>
                                        <p:cTn id="74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1 0.003 C -0.02118 0.01826 -0.02708 0.03375 -0.05173 0.04531 C -0.07639 0.05687 -0.13437 0.07861 -0.16284 0.0726 C -0.19132 0.06658 -0.20034 0.03398 -0.22309 0.00924 C -0.24583 -0.0155 -0.26944 -0.05249 -0.2993 -0.07538 C -0.32916 -0.09827 -0.3717 -0.1133 -0.40243 -0.1281 C -0.43316 -0.14289 -0.46319 -0.18313 -0.4835 -0.16417 C -0.50382 -0.14521 -0.52152 -0.05896 -0.52465 -0.01388 C -0.52777 0.03121 -0.50295 0.06959 -0.50243 0.10658 C -0.50191 0.14358 -0.50729 0.18797 -0.52152 0.20809 C -0.53576 0.2282 -0.57639 0.2282 -0.58819 0.22705 C -0.6 0.22589 -0.59218 0.20554 -0.59288 0.20161 E">
                                      <p:cBhvr>
                                        <p:cTn id="79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78 0.03884 C -0.07049 0.14658 -0.08819 0.25433 -0.0908 0.32416 C -0.0934 0.39398 -0.03681 0.41549 -0.06858 0.45734 C -0.10035 0.49919 -0.22292 0.56346 -0.28142 0.57572 C -0.33993 0.58797 -0.36875 0.54497 -0.41944 0.53132 C -0.47014 0.51768 -0.54323 0.49526 -0.58611 0.49317 C -0.62899 0.49109 -0.66146 0.51745 -0.67656 0.51861 C -0.69167 0.51976 -0.67656 0.50289 -0.67656 0.49965 E">
                                      <p:cBhvr>
                                        <p:cTn id="84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27 0.04439 C -0.05156 0.09272 -0.03767 0.14127 -0.02395 0.18821 C -0.01024 0.23515 0.01632 0.27306 0.01719 0.32555 C 0.01806 0.37804 0.00209 0.47538 -0.01927 0.50312 C -0.04062 0.53087 -0.09149 0.50173 -0.11128 0.49249 C -0.13107 0.48324 -0.1342 0.45549 -0.13836 0.44809 E">
                                      <p:cBhvr>
                                        <p:cTn id="89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586 0.05063 C -0.10312 0.07977 -0.13038 0.10913 -0.16319 0.11838 C -0.196 0.12763 -0.23385 0.1156 -0.27274 0.10566 C -0.31163 0.09572 -0.35625 0.06612 -0.39652 0.05919 C -0.4368 0.05225 -0.46753 0.05572 -0.51406 0.06335 C -0.56059 0.07098 -0.62882 0.10566 -0.67586 0.10566 C -0.72291 0.10566 -0.77639 0.07352 -0.79652 0.06335 C -0.81666 0.05318 -0.80659 0.04878 -0.79652 0.04439 E">
                                      <p:cBhvr>
                                        <p:cTn id="94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215 0.01665 C -0.05833 0.03399 -0.05451 0.05156 -0.04635 0.08647 C -0.03819 0.12139 -0.0099 0.19075 -0.01302 0.2259 C -0.01615 0.26104 -0.03698 0.28717 -0.06528 0.2978 C -0.09358 0.30844 -0.12917 0.28601 -0.18281 0.28948 C -0.23646 0.29295 -0.35 0.31445 -0.3875 0.31908 C -0.425 0.3237 -0.40469 0.31723 -0.40816 0.31699 E">
                                      <p:cBhvr>
                                        <p:cTn id="99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0880" y="3808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Completează proverbele şi zicătorile cu adjectivele potrivite din coloana alăturată: (click pe adjectivul 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3716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Acul ........ haine .............. co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13716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66"/>
                </a:solidFill>
                <a:latin typeface="Tahoma"/>
              </a:rPr>
              <a:t>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0120" y="137160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66"/>
                </a:solidFill>
                <a:latin typeface="Tahoma"/>
              </a:rPr>
              <a:t>m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77120" y="1905120"/>
            <a:ext cx="76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66"/>
                </a:solidFill>
                <a:latin typeface="Tahoma"/>
              </a:rPr>
              <a:t>bun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190512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66"/>
                </a:solidFill>
                <a:latin typeface="Tahoma"/>
              </a:rPr>
              <a:t>scum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236232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Corabia .......... fără cârmă ........... se scufund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327672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Buturuga ........... răstoarnă carul .........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411480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Bani ........ pentru zile ..........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495288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Părul .......... şi mintea .............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00800" y="2666880"/>
            <a:ext cx="838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66"/>
                </a:solidFill>
                <a:latin typeface="Tahoma"/>
              </a:rPr>
              <a:t>al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0120" y="25909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66"/>
                </a:solidFill>
                <a:latin typeface="Tahoma"/>
              </a:rPr>
              <a:t>scurt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33526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66"/>
                </a:solidFill>
                <a:latin typeface="Tahoma"/>
              </a:rPr>
              <a:t>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342900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66"/>
                </a:solidFill>
                <a:latin typeface="Tahoma"/>
              </a:rPr>
              <a:t>mic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24480" y="4038480"/>
            <a:ext cx="1067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66"/>
                </a:solidFill>
                <a:latin typeface="Tahoma"/>
              </a:rPr>
              <a:t>m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96080" y="40384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66"/>
                </a:solidFill>
                <a:latin typeface="Tahoma"/>
              </a:rPr>
              <a:t>neg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248520" y="4419720"/>
            <a:ext cx="132552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6 0.00115 C -0.04548 -0.00925 -0.03819 -0.01943 -0.12257 -0.02636 C -0.20694 -0.0333 -0.48055 -0.0444 -0.55902 -0.04116 C -0.6375 -0.03792 -0.58819 -0.01295 -0.59392 -0.0074 E">
                                      <p:cBhvr>
                                        <p:cTn id="105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354 -0.03352 C -0.10486 -0.08485 -0.14618 -0.13595 -0.19531 -0.15399 C -0.24444 -0.17202 -0.30312 -0.1452 -0.35868 -0.14127 C -0.41424 -0.13734 -0.49479 -0.13919 -0.52865 -0.13086 C -0.5625 -0.12254 -0.55625 -0.09803 -0.56198 -0.09063 E">
                                      <p:cBhvr>
                                        <p:cTn id="110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843 -0.01157 C -0.0802 -0.01688 -0.1118 -0.0222 -0.16597 -0.00948 C -0.22014 0.00323 -0.30711 0.05225 -0.37378 0.0645 C -0.44045 0.07676 -0.51389 0.06312 -0.56597 0.0645 C -0.61805 0.06589 -0.66458 0.0615 -0.68645 0.07306 C -0.70833 0.08462 -0.69566 0.12416 -0.69757 0.13433 E">
                                      <p:cBhvr>
                                        <p:cTn id="115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312 0.00555 C -0.10747 0.00578 -0.16163 0.00625 -0.19757 0.00555 C -0.23351 0.00486 -0.24844 -0.00115 -0.2691 0.00139 C -0.28976 0.00393 -0.31128 0.01156 -0.32135 0.02035 C -0.33142 0.02914 -0.32795 0.04856 -0.32934 0.05411 E">
                                      <p:cBhvr>
                                        <p:cTn id="120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03 -0.02936 C -0.06979 -0.06127 -0.08056 -0.09294 -0.10035 -0.11375 C -0.12014 -0.13456 -0.15694 -0.14705 -0.17812 -0.15398 C -0.19931 -0.16092 -0.21667 -0.16092 -0.22726 -0.15607 C -0.23785 -0.15121 -0.23924 -0.12971 -0.24167 -0.12439 E">
                                      <p:cBhvr>
                                        <p:cTn id="125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233 -0.03954 C -0.19601 -0.06682 -0.32969 -0.09411 -0.42431 -0.10497 C -0.51893 -0.11584 -0.58872 -0.11653 -0.63056 -0.10497 C -0.6724 -0.09341 -0.66754 -0.04648 -0.675 -0.03515 E">
                                      <p:cBhvr>
                                        <p:cTn id="130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948 0.01665 C -0.06076 0.06243 -0.07205 0.10844 -0.1368 0.12879 C -0.20156 0.14914 -0.36857 0.13711 -0.43836 0.1392 C -0.50816 0.14128 -0.5309 0.13226 -0.55573 0.14151 C -0.58055 0.15076 -0.58229 0.18544 -0.5875 0.19422 E">
                                      <p:cBhvr>
                                        <p:cTn id="135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146 0.03584 C -0.10712 0.04486 -0.15278 0.05411 -0.18525 0.05064 C -0.21771 0.04717 -0.23264 0.02752 -0.25677 0.0148 C -0.28091 0.00208 -0.29879 -0.01664 -0.32969 -0.02543 C -0.36059 -0.03422 -0.41233 -0.04023 -0.44254 -0.03815 C -0.47275 -0.03607 -0.49948 -0.01664 -0.51077 -0.01271 E">
                                      <p:cBhvr>
                                        <p:cTn id="140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469 0.0222 C -0.10104 0.06566 -0.14722 0.10936 -0.20226 0.13641 C -0.25729 0.16347 -0.32847 0.18035 -0.3849 0.18497 C -0.44132 0.18959 -0.50747 0.15907 -0.54045 0.16393 C -0.57344 0.16878 -0.57622 0.20601 -0.58333 0.21456 E">
                                      <p:cBhvr>
                                        <p:cTn id="145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22 0.0356 C -0.0974 0.03445 -0.12257 0.03329 -0.15156 0.04393 C -0.18056 0.05456 -0.22326 0.07491 -0.2467 0.09896 C -0.27014 0.123 -0.27361 0.15768 -0.29271 0.18774 C -0.31181 0.2178 -0.33351 0.25826 -0.36111 0.27861 C -0.38872 0.29896 -0.43403 0.30543 -0.45781 0.31028 C -0.4816 0.31514 -0.49514 0.30497 -0.50382 0.3082 C -0.5125 0.31144 -0.5092 0.32601 -0.51024 0.32948 E">
                                      <p:cBhvr>
                                        <p:cTn id="15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80880" y="60948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66"/>
                </a:solidFill>
                <a:latin typeface="Tahoma"/>
              </a:rPr>
              <a:t>Înlocuieşte expresiile date cu adjective potrivite: (click pe adjecti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1066680"/>
            <a:ext cx="396216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66"/>
                </a:solidFill>
                <a:latin typeface="Tahoma"/>
              </a:rPr>
              <a:t>mort de foam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66"/>
                </a:solidFill>
                <a:latin typeface="Tahoma"/>
              </a:rPr>
              <a:t>neagră la inimă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66"/>
                </a:solidFill>
                <a:latin typeface="Tahoma"/>
              </a:rPr>
              <a:t>ruptă din soar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66"/>
                </a:solidFill>
                <a:latin typeface="Tahoma"/>
              </a:rPr>
              <a:t>poleit cu aur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66"/>
                </a:solidFill>
                <a:latin typeface="Tahoma"/>
              </a:rPr>
              <a:t>ochi şi urechi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66"/>
                </a:solidFill>
                <a:latin typeface="Tahoma"/>
              </a:rPr>
              <a:t>foc şi pară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(o</a:t>
            </a:r>
            <a:r>
              <a:rPr b="1" lang="ro-RO" sz="1800" spc="-1" strike="noStrike">
                <a:solidFill>
                  <a:srgbClr val="ffff66"/>
                </a:solidFill>
                <a:latin typeface="Tahoma"/>
              </a:rPr>
              <a:t>m) cu judecată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66"/>
                </a:solidFill>
                <a:latin typeface="Tahoma"/>
              </a:rPr>
              <a:t>cu dare de mână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66"/>
                </a:solidFill>
                <a:latin typeface="Tahoma"/>
              </a:rPr>
              <a:t>zgârie-brânză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66"/>
                </a:solidFill>
                <a:latin typeface="Tahoma"/>
              </a:rPr>
              <a:t>(om) de ispravă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66"/>
                </a:solidFill>
                <a:latin typeface="Tahoma"/>
              </a:rPr>
              <a:t>larg la mână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66"/>
                </a:solidFill>
                <a:latin typeface="Tahoma"/>
              </a:rPr>
              <a:t>lucru de folo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66"/>
                </a:solidFill>
                <a:latin typeface="Tahoma"/>
              </a:rPr>
              <a:t>(om) cu cap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86600" y="24382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cffcc"/>
                </a:solidFill>
                <a:latin typeface="Tahoma"/>
              </a:rPr>
              <a:t>înfome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91320" y="297180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cffcc"/>
                </a:solidFill>
                <a:latin typeface="Tahoma"/>
              </a:rPr>
              <a:t>supărat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81680" y="1447920"/>
            <a:ext cx="1828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cffcc"/>
                </a:solidFill>
                <a:latin typeface="Tahoma"/>
              </a:rPr>
              <a:t>frumoas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3276720"/>
            <a:ext cx="1067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cffcc"/>
                </a:solidFill>
                <a:latin typeface="Tahoma"/>
              </a:rPr>
              <a:t>sc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480060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cffcc"/>
                </a:solidFill>
                <a:latin typeface="Tahoma"/>
              </a:rPr>
              <a:t>a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0120" y="205740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cffcc"/>
                </a:solidFill>
                <a:latin typeface="Tahoma"/>
              </a:rPr>
              <a:t>ner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5867280"/>
            <a:ext cx="1295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cffcc"/>
                </a:solidFill>
                <a:latin typeface="Tahoma"/>
              </a:rPr>
              <a:t>chibz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4038480"/>
            <a:ext cx="99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cffcc"/>
                </a:solidFill>
                <a:latin typeface="Tahoma"/>
              </a:rPr>
              <a:t>bog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0120" y="52578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cffcc"/>
                </a:solidFill>
                <a:latin typeface="Tahoma"/>
              </a:rPr>
              <a:t>zgâr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3809880"/>
            <a:ext cx="990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cffcc"/>
                </a:solidFill>
                <a:latin typeface="Tahoma"/>
              </a:rPr>
              <a:t>har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20574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cffcc"/>
                </a:solidFill>
                <a:latin typeface="Tahoma"/>
              </a:rPr>
              <a:t>deşt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077320" y="46483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cffcc"/>
                </a:solidFill>
                <a:latin typeface="Tahoma"/>
              </a:rPr>
              <a:t>ut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457200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cffcc"/>
                </a:solidFill>
                <a:latin typeface="Tahoma"/>
              </a:rPr>
              <a:t>dar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06 -0.03746 C -0.12032 -0.10173 -0.1974 -0.16601 -0.26042 -0.19399 C -0.32344 -0.22197 -0.3941 -0.20278 -0.42084 -0.20462 E">
                                      <p:cBhvr>
                                        <p:cTn id="156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556 -0.03977 C -0.12848 -0.07584 -0.15122 -0.11191 -0.17691 -0.14127 C -0.20261 -0.17064 -0.24184 -0.20301 -0.25955 -0.21526 C -0.27726 -0.22752 -0.27917 -0.21549 -0.28334 -0.21526 E">
                                      <p:cBhvr>
                                        <p:cTn id="161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11 -0.00462 C -0.10816 -0.00208 -0.13004 0.00047 -0.15278 0.00162 C -0.17552 0.00278 -0.19289 -0.00555 -0.22257 0.00162 C -0.25226 0.00879 -0.30365 0.03468 -0.33056 0.04393 C -0.35747 0.05318 -0.37153 0.05411 -0.38455 0.05665 C -0.39757 0.05919 -0.40434 0.05804 -0.40834 0.05873 E">
                                      <p:cBhvr>
                                        <p:cTn id="166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569 -0.00555 C -0.17847 -0.04786 -0.23108 -0.09017 -0.27969 -0.11121 C -0.3283 -0.13225 -0.37986 -0.12763 -0.41788 -0.13225 C -0.4559 -0.13688 -0.49323 -0.13757 -0.50833 -0.13873 E">
                                      <p:cBhvr>
                                        <p:cTn id="171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49 -0.05041 C -0.06441 -0.0844 -0.08733 -0.11839 -0.10972 -0.13503 C -0.13212 -0.15168 -0.15556 -0.13781 -0.17639 -0.14983 C -0.19722 -0.16185 -0.21441 -0.1822 -0.23507 -0.20694 C -0.25573 -0.23168 -0.27847 -0.28047 -0.30017 -0.29781 C -0.32187 -0.31515 -0.35 -0.30844 -0.36528 -0.31052 C -0.38056 -0.3126 -0.38767 -0.31052 -0.39219 -0.31052 E">
                                      <p:cBhvr>
                                        <p:cTn id="176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003 -0.01549 C -0.13142 -0.02566 -0.18281 -0.03561 -0.22274 -0.02821 C -0.26267 -0.02081 -0.29236 -9.24855000000724E-007 -0.31961 0.0289 C -0.34687 0.0578 -0.37066 0.12231 -0.38628 0.1452 C -0.40191 0.16809 -0.39913 0.16439 -0.41336 0.16624 C -0.4276 0.16809 -0.45347 0.157 -0.47205 0.15561 C -0.49062 0.15422 -0.5158 0.157 -0.52448 0.15769 E">
                                      <p:cBhvr>
                                        <p:cTn id="181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74 -0.04508 C -0.08212 -0.083 -0.09149 -0.12092 -0.10451 -0.15514 C -0.11753 -0.18936 -0.12535 -0.21919 -0.15052 -0.25017 C -0.17569 -0.28115 -0.23785 -0.32601 -0.25538 -0.34104 E">
                                      <p:cBhvr>
                                        <p:cTn id="186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7 -0.00508 C -0.09896 -0.01318 -0.12604 -0.02104 -0.18108 -0.02196 C -0.23611 -0.02289 -0.36441 -0.01341 -0.40174 -0.01133 E">
                                      <p:cBhvr>
                                        <p:cTn id="191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57 -0.00209 C -0.08629 -0.01619 -0.1 -0.03006 -0.13143 -0.05295 C -0.16285 -0.07584 -0.21736 -0.12602 -0.26146 -0.13943 C -0.30556 -0.15284 -0.36198 -0.13342 -0.39636 -0.13318 C -0.43073 -0.13295 -0.45591 -0.13665 -0.46789 -0.13735 E">
                                      <p:cBhvr>
                                        <p:cTn id="196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7 0.003 C -0.10139 0.02266 -0.13108 0.04254 -0.14774 0.05988 C -0.16441 0.07722 -0.15399 0.09364 -0.1717 0.10659 C -0.18941 0.11954 -0.24167 0.13295 -0.25417 0.13826 E">
                                      <p:cBhvr>
                                        <p:cTn id="201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604 0.01803 C -0.09479 0.04 -0.11354 0.06219 -0.12361 0.08994 C -0.13368 0.11769 -0.12865 0.14127 -0.13629 0.18497 C -0.14393 0.22867 -0.16111 0.30797 -0.16962 0.35191 C -0.17813 0.39584 -0.17952 0.41688 -0.18716 0.44925 C -0.19479 0.48162 -0.20052 0.52624 -0.21563 0.54636 C -0.23073 0.56647 -0.26736 0.56578 -0.27761 0.56971 E">
                                      <p:cBhvr>
                                        <p:cTn id="206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1 0.00139 C -0.0401 -0.00902 -0.0401 -0.01942 -0.0592 -0.02405 C -0.0783 -0.02867 -0.12586 -0.0259 -0.15434 -0.02613 C -0.18281 -0.02636 -0.20677 -0.03306 -0.23055 -0.02613 C -0.25434 -0.01919 -0.26805 -0.00486 -0.29722 0.01618 C -0.32639 0.03723 -0.37743 0.08231 -0.4052 0.10058 C -0.43298 0.11884 -0.44722 0.11977 -0.46389 0.12601 C -0.48055 0.13225 -0.49774 0.13665 -0.5052 0.13873 E">
                                      <p:cBhvr>
                                        <p:cTn id="211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49 -0.00994 C -0.0875 -0.00832 -0.10451 -0.0067 -0.12118 0.00486 C -0.13785 0.01642 -0.15069 0.04532 -0.17049 0.05965 C -0.19028 0.07399 -0.22396 0.0874 -0.24028 0.09133 C -0.2566 0.09526 -0.26441 0.08439 -0.26892 0.08301 E">
                                      <p:cBhvr>
                                        <p:cTn id="216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38088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Locul obişnuit al adjectivului este după substantivul pe care îl însoţeşte. El poate sta însă şi înaintea substantivulu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1219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00"/>
                </a:solidFill>
                <a:latin typeface="Tahoma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6002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cffcc"/>
                </a:solidFill>
                <a:latin typeface="Tahoma"/>
              </a:rPr>
              <a:t>Găseşte adjectivele din textele de mai jos şi arată locul lor faţă de substantivele pe care le însoţesc. Scrie-le pe cai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2286000"/>
            <a:ext cx="83059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66"/>
                </a:solidFill>
                <a:latin typeface="Tahoma"/>
              </a:rPr>
              <a:t>“</a:t>
            </a:r>
            <a:r>
              <a:rPr b="1" lang="ro-RO" sz="1600" spc="-1" strike="noStrike">
                <a:solidFill>
                  <a:srgbClr val="ffff66"/>
                </a:solidFill>
                <a:latin typeface="Tahoma"/>
              </a:rPr>
              <a:t>O luntre aurită veghea pe undele limpezi ale lacului, lângă poartă; şi-n aerul curat al serii tremurau din palat cântece mândre şi senine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66"/>
                </a:solidFill>
                <a:latin typeface="Tahoma"/>
              </a:rPr>
              <a:t>                                                              </a:t>
            </a:r>
            <a:r>
              <a:rPr b="1" lang="ro-RO" sz="1600" spc="-1" strike="noStrike">
                <a:solidFill>
                  <a:srgbClr val="ffff66"/>
                </a:solidFill>
                <a:latin typeface="Tahoma"/>
              </a:rPr>
              <a:t>(M. Eminescu – Făt-Frumos din lacrim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3657600"/>
            <a:ext cx="37339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66"/>
                </a:solidFill>
                <a:latin typeface="Tahoma"/>
              </a:rPr>
              <a:t>“</a:t>
            </a:r>
            <a:r>
              <a:rPr b="1" lang="ro-RO" sz="1600" spc="-1" strike="noStrike">
                <a:solidFill>
                  <a:srgbClr val="ffff66"/>
                </a:solidFill>
                <a:latin typeface="Tahoma"/>
              </a:rPr>
              <a:t>Mi-e dor de toaca din vecernii,      Şi de tălăngi, de verde plai,            De jalnic fluier de păstor,               De mândru port, de dulce grai -     Mi-e dor de tine, d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66"/>
                </a:solidFill>
                <a:latin typeface="Tahoma"/>
              </a:rPr>
              <a:t>                </a:t>
            </a:r>
            <a:r>
              <a:rPr b="1" lang="ro-RO" sz="1600" spc="-1" strike="noStrike">
                <a:solidFill>
                  <a:srgbClr val="ffff66"/>
                </a:solidFill>
                <a:latin typeface="Tahoma"/>
              </a:rPr>
              <a:t>(Şt. O. Iosif – Mi-e d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2286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66"/>
                </a:solidFill>
                <a:latin typeface="Tahoma"/>
              </a:rPr>
              <a:t>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3657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66"/>
                </a:solidFill>
                <a:latin typeface="Tahoma"/>
              </a:rPr>
              <a:t>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181480" y="4114800"/>
            <a:ext cx="282888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04920" y="304920"/>
            <a:ext cx="84582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Adjectivul se acordă în gen şi număr cu substantivul pe care îl determină. Din acest punct de vedere există două feluri de adjecti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o-RO" sz="2000" spc="-1" strike="noStrike">
                <a:solidFill>
                  <a:srgbClr val="ff0000"/>
                </a:solidFill>
                <a:latin typeface="Tahoma"/>
              </a:rPr>
              <a:t>- adjective variabile</a:t>
            </a:r>
            <a:r>
              <a:rPr b="1" lang="ro-RO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o-RO" sz="2000" spc="-1" strike="noStrike">
                <a:solidFill>
                  <a:srgbClr val="ffff66"/>
                </a:solidFill>
                <a:latin typeface="Tahoma"/>
              </a:rPr>
              <a:t>– cele care îşi schimbă forma după gen şi număr:</a:t>
            </a:r>
            <a:r>
              <a:rPr b="1" lang="ro-RO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o-RO" sz="2000" spc="-1" strike="noStrike">
                <a:solidFill>
                  <a:srgbClr val="ffff66"/>
                </a:solidFill>
                <a:latin typeface="Tahoma"/>
              </a:rPr>
              <a:t>elev</a:t>
            </a:r>
            <a:r>
              <a:rPr b="1" lang="ro-RO" sz="2000" spc="-1" strike="noStrike">
                <a:solidFill>
                  <a:srgbClr val="ff0000"/>
                </a:solidFill>
                <a:latin typeface="Tahoma"/>
              </a:rPr>
              <a:t> bun</a:t>
            </a:r>
            <a:r>
              <a:rPr b="1" lang="ro-RO" sz="2000" spc="-1" strike="noStrike">
                <a:solidFill>
                  <a:srgbClr val="ffff66"/>
                </a:solidFill>
                <a:latin typeface="Tahoma"/>
              </a:rPr>
              <a:t>, elevă</a:t>
            </a:r>
            <a:r>
              <a:rPr b="1" lang="ro-RO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o-RO" sz="2000" spc="-1" strike="noStrike">
                <a:solidFill>
                  <a:srgbClr val="ff0000"/>
                </a:solidFill>
                <a:latin typeface="Tahoma"/>
              </a:rPr>
              <a:t>bună</a:t>
            </a:r>
            <a:r>
              <a:rPr b="1" lang="ro-RO" sz="2000" spc="-1" strike="noStrike">
                <a:solidFill>
                  <a:srgbClr val="ffff66"/>
                </a:solidFill>
                <a:latin typeface="Tahoma"/>
              </a:rPr>
              <a:t>, elevi</a:t>
            </a:r>
            <a:r>
              <a:rPr b="1" lang="ro-RO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o-RO" sz="2000" spc="-1" strike="noStrike">
                <a:solidFill>
                  <a:srgbClr val="ff0000"/>
                </a:solidFill>
                <a:latin typeface="Tahoma"/>
              </a:rPr>
              <a:t>buni</a:t>
            </a:r>
            <a:r>
              <a:rPr b="1" lang="ro-RO" sz="2000" spc="-1" strike="noStrike">
                <a:solidFill>
                  <a:srgbClr val="ffff66"/>
                </a:solidFill>
                <a:latin typeface="Tahoma"/>
              </a:rPr>
              <a:t>, eleve</a:t>
            </a:r>
            <a:r>
              <a:rPr b="1" lang="ro-RO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o-RO" sz="2000" spc="-1" strike="noStrike">
                <a:solidFill>
                  <a:srgbClr val="ff0000"/>
                </a:solidFill>
                <a:latin typeface="Tahoma"/>
              </a:rPr>
              <a:t>bune</a:t>
            </a:r>
            <a:r>
              <a:rPr b="1" lang="ro-RO" sz="2000" spc="-1" strike="noStrike">
                <a:solidFill>
                  <a:srgbClr val="ffff66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o-RO" sz="2000" spc="-1" strike="noStrike">
                <a:solidFill>
                  <a:srgbClr val="00ff00"/>
                </a:solidFill>
                <a:latin typeface="Tahoma"/>
              </a:rPr>
              <a:t>- adjective invariabile</a:t>
            </a:r>
            <a:r>
              <a:rPr b="1" lang="ro-RO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o-RO" sz="2000" spc="-1" strike="noStrike">
                <a:solidFill>
                  <a:srgbClr val="ffff66"/>
                </a:solidFill>
                <a:latin typeface="Tahoma"/>
              </a:rPr>
              <a:t>– cele care nu îşi schimbă forma după gen sau număr:</a:t>
            </a:r>
            <a:r>
              <a:rPr b="1" lang="ro-RO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o-RO" sz="2000" spc="-1" strike="noStrike">
                <a:solidFill>
                  <a:srgbClr val="ffff66"/>
                </a:solidFill>
                <a:latin typeface="Tahoma"/>
              </a:rPr>
              <a:t> om</a:t>
            </a:r>
            <a:r>
              <a:rPr b="1" lang="ro-RO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o-RO" sz="2000" spc="-1" strike="noStrike">
                <a:solidFill>
                  <a:srgbClr val="00ff00"/>
                </a:solidFill>
                <a:latin typeface="Tahoma"/>
              </a:rPr>
              <a:t>cumsecade</a:t>
            </a:r>
            <a:r>
              <a:rPr b="1" lang="ro-RO" sz="2000" spc="-1" strike="noStrike">
                <a:solidFill>
                  <a:srgbClr val="ffff66"/>
                </a:solidFill>
                <a:latin typeface="Tahoma"/>
              </a:rPr>
              <a:t>, oameni</a:t>
            </a:r>
            <a:r>
              <a:rPr b="1" lang="ro-RO" sz="2000" spc="-1" strike="noStrike">
                <a:solidFill>
                  <a:srgbClr val="00ff00"/>
                </a:solidFill>
                <a:latin typeface="Tahoma"/>
              </a:rPr>
              <a:t> cumsecade</a:t>
            </a:r>
            <a:r>
              <a:rPr b="1" lang="ro-RO" sz="2000" spc="-1" strike="noStrike">
                <a:solidFill>
                  <a:srgbClr val="ffff66"/>
                </a:solidFill>
                <a:latin typeface="Tahoma"/>
              </a:rPr>
              <a:t>, femeie</a:t>
            </a:r>
            <a:r>
              <a:rPr b="1" lang="ro-RO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o-RO" sz="2000" spc="-1" strike="noStrike">
                <a:solidFill>
                  <a:srgbClr val="00ff00"/>
                </a:solidFill>
                <a:latin typeface="Tahoma"/>
              </a:rPr>
              <a:t>cumsecade</a:t>
            </a:r>
            <a:r>
              <a:rPr b="1" lang="ro-RO" sz="2000" spc="-1" strike="noStrike">
                <a:solidFill>
                  <a:srgbClr val="ffff66"/>
                </a:solidFill>
                <a:latin typeface="Tahoma"/>
              </a:rPr>
              <a:t>, femei</a:t>
            </a:r>
            <a:r>
              <a:rPr b="1" lang="ro-RO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o-RO" sz="2000" spc="-1" strike="noStrike">
                <a:solidFill>
                  <a:srgbClr val="00ff00"/>
                </a:solidFill>
                <a:latin typeface="Tahoma"/>
              </a:rPr>
              <a:t>cumsecade</a:t>
            </a:r>
            <a:r>
              <a:rPr b="1" lang="ro-RO" sz="2000" spc="-1" strike="noStrike">
                <a:solidFill>
                  <a:srgbClr val="ffff66"/>
                </a:solidFill>
                <a:latin typeface="Tahoma"/>
              </a:rPr>
              <a:t>; ciorap</a:t>
            </a:r>
            <a:r>
              <a:rPr b="1" lang="ro-RO" sz="2000" spc="-1" strike="noStrike">
                <a:solidFill>
                  <a:srgbClr val="00ff00"/>
                </a:solidFill>
                <a:latin typeface="Tahoma"/>
              </a:rPr>
              <a:t> gri</a:t>
            </a:r>
            <a:r>
              <a:rPr b="1" lang="ro-RO" sz="2000" spc="-1" strike="noStrike">
                <a:solidFill>
                  <a:srgbClr val="ffff66"/>
                </a:solidFill>
                <a:latin typeface="Tahoma"/>
              </a:rPr>
              <a:t>, ciorapi</a:t>
            </a:r>
            <a:r>
              <a:rPr b="1" lang="ro-RO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o-RO" sz="2000" spc="-1" strike="noStrike">
                <a:solidFill>
                  <a:srgbClr val="00ff00"/>
                </a:solidFill>
                <a:latin typeface="Tahoma"/>
              </a:rPr>
              <a:t>gri</a:t>
            </a:r>
            <a:r>
              <a:rPr b="1" lang="ro-RO" sz="2000" spc="-1" strike="noStrike">
                <a:solidFill>
                  <a:srgbClr val="ffff66"/>
                </a:solidFill>
                <a:latin typeface="Tahoma"/>
              </a:rPr>
              <a:t>, haină</a:t>
            </a:r>
            <a:r>
              <a:rPr b="1" lang="ro-RO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o-RO" sz="2000" spc="-1" strike="noStrike">
                <a:solidFill>
                  <a:srgbClr val="00ff00"/>
                </a:solidFill>
                <a:latin typeface="Tahoma"/>
              </a:rPr>
              <a:t>gri</a:t>
            </a:r>
            <a:r>
              <a:rPr b="1" lang="ro-RO" sz="2000" spc="-1" strike="noStrike">
                <a:solidFill>
                  <a:srgbClr val="ffff66"/>
                </a:solidFill>
                <a:latin typeface="Tahoma"/>
              </a:rPr>
              <a:t>, haine</a:t>
            </a:r>
            <a:r>
              <a:rPr b="1" lang="ro-RO" sz="2000" spc="-1" strike="noStrike">
                <a:solidFill>
                  <a:srgbClr val="00ff00"/>
                </a:solidFill>
                <a:latin typeface="Tahoma"/>
              </a:rPr>
              <a:t> gri</a:t>
            </a:r>
            <a:r>
              <a:rPr b="1" lang="ro-RO" sz="2000" spc="-1" strike="noStrike">
                <a:solidFill>
                  <a:srgbClr val="ffff66"/>
                </a:solidFill>
                <a:latin typeface="Tahoma"/>
              </a:rPr>
              <a:t>, palton</a:t>
            </a:r>
            <a:r>
              <a:rPr b="1" lang="ro-RO" sz="2000" spc="-1" strike="noStrike">
                <a:solidFill>
                  <a:srgbClr val="00ff00"/>
                </a:solidFill>
                <a:latin typeface="Tahoma"/>
              </a:rPr>
              <a:t> gri</a:t>
            </a:r>
            <a:r>
              <a:rPr b="1" lang="ro-RO" sz="2000" spc="-1" strike="noStrike">
                <a:solidFill>
                  <a:srgbClr val="ffff66"/>
                </a:solidFill>
                <a:latin typeface="Tahoma"/>
              </a:rPr>
              <a:t>, paltoane</a:t>
            </a:r>
            <a:r>
              <a:rPr b="1" lang="ro-RO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o-RO" sz="2000" spc="-1" strike="noStrike">
                <a:solidFill>
                  <a:srgbClr val="00ff00"/>
                </a:solidFill>
                <a:latin typeface="Tahoma"/>
              </a:rPr>
              <a:t>gri</a:t>
            </a:r>
            <a:r>
              <a:rPr b="1" lang="ro-RO" sz="2000" spc="-1" strike="noStrike">
                <a:solidFill>
                  <a:srgbClr val="ffff66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3809880"/>
            <a:ext cx="7620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Dă cinci exemple de adjective variabile şi cinci de adjective invariabile care să însoţească substantive de genuri diferite, la singular şi la pl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334120" y="5334120"/>
            <a:ext cx="1218960" cy="1295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2590920" y="5334120"/>
            <a:ext cx="114300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14400" y="304920"/>
            <a:ext cx="1447920" cy="533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3808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Tahoma"/>
              </a:rPr>
              <a:t>Reţineţ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086600" y="304920"/>
            <a:ext cx="1752480" cy="14284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09480" y="1066680"/>
            <a:ext cx="1406520" cy="1543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81080" y="1295280"/>
            <a:ext cx="5105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Indiferent de locul pe care îl are faţă de substantiv, adjectivul nu se desparte prin virgulă de substantivul determin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609480" y="2743200"/>
            <a:ext cx="1406520" cy="1542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057400" y="2743200"/>
            <a:ext cx="6781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Adjectivele care se termină la numărul singular în “-iu”, se scriu la numărul plural cu “-ii” când stau după substantiv şi cu “-iii” când stau înaintea substantivului. Exemplu: copil </a:t>
            </a:r>
            <a:r>
              <a:rPr b="1" lang="ro-RO" sz="2000" spc="-1" strike="noStrike">
                <a:solidFill>
                  <a:srgbClr val="ff6600"/>
                </a:solidFill>
                <a:latin typeface="Tahoma"/>
              </a:rPr>
              <a:t>zglobiu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, copii</a:t>
            </a:r>
            <a:r>
              <a:rPr b="1" lang="ro-RO" sz="2000" spc="-1" strike="noStrike">
                <a:solidFill>
                  <a:srgbClr val="ff6600"/>
                </a:solidFill>
                <a:latin typeface="Tahoma"/>
              </a:rPr>
              <a:t> zglobii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o-RO" sz="2000" spc="-1" strike="noStrike">
                <a:solidFill>
                  <a:srgbClr val="ff6600"/>
                </a:solidFill>
                <a:latin typeface="Tahoma"/>
              </a:rPr>
              <a:t>zglobiii</a:t>
            </a:r>
            <a:r>
              <a:rPr b="1" lang="ro-RO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copii. Daţi şi voi alte exempl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609480" y="4419720"/>
            <a:ext cx="1406520" cy="15429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981080" y="4648320"/>
            <a:ext cx="6629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La genul feminin, adjectivele terminate la numărul singular în “-ie”, se scriu la numărul plural cu “-ii” când stau după substantiv şi rămân tot cu “-ii” şi când stau înaintea substantivului. Exemplu: câmpie </a:t>
            </a:r>
            <a:r>
              <a:rPr b="1" lang="ro-RO" sz="2000" spc="-1" strike="noStrike">
                <a:solidFill>
                  <a:srgbClr val="ff6600"/>
                </a:solidFill>
                <a:latin typeface="Tahoma"/>
              </a:rPr>
              <a:t>cenuşie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, câmpii </a:t>
            </a:r>
            <a:r>
              <a:rPr b="1" lang="ro-RO" sz="2000" spc="-1" strike="noStrike">
                <a:solidFill>
                  <a:srgbClr val="ff6600"/>
                </a:solidFill>
                <a:latin typeface="Tahoma"/>
              </a:rPr>
              <a:t>cenuşii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o-RO" sz="2000" spc="-1" strike="noStrike">
                <a:solidFill>
                  <a:srgbClr val="ff6600"/>
                </a:solidFill>
                <a:latin typeface="Tahoma"/>
              </a:rPr>
              <a:t>cenuşiile 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câmpii. Daţi şi voi alte exe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4:56:44Z</dcterms:created>
  <dc:creator>x</dc:creator>
  <dc:description/>
  <dc:language>en-US</dc:language>
  <cp:lastModifiedBy>IULIA</cp:lastModifiedBy>
  <dcterms:modified xsi:type="dcterms:W3CDTF">2010-01-06T16:35:42Z</dcterms:modified>
  <cp:revision>10</cp:revision>
  <dc:subject/>
  <dc:title>Slide 1</dc:title>
</cp:coreProperties>
</file>